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D09-6CC1-45A7-AACE-871708C7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365-65A1-4A33-BB0F-1537AE99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94F-586B-48E9-BA6C-1CBD2152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D98-2B8C-4D94-84BE-E934FA45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3349-D1EB-4168-AF5F-19D71E1D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5AD6-5F07-4E06-BCA1-E703655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18A-67D2-45CE-B1BC-9444DA5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8FAF-1439-483C-A4E7-1FB78E72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FBB4-1469-49F5-A6AF-31A946E6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6C87-BCAD-4376-B97F-F705EDB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7051-1E57-4F53-B946-3AF9845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604-E107-4EE2-9076-055A465C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3AC5-9EB4-4257-A2C5-C6A1806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B1D2-BA4C-41FB-882B-8B29DAA4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C4E5-24F7-47B2-9AB9-B0205ECE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5237-22F9-41E0-8F54-9976749C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5E3A-B048-4DDF-B1E1-F03D1D65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C1E-D308-4680-8FC4-FE987060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0C7-BCD1-4585-B060-E4938F64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B21-4AFD-4B55-9AED-46601369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BA5-53A2-4D4A-8946-685E1B96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409-46B9-4745-9335-6AC06352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F20-2720-4B9E-BB5B-1B67BD9F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6BC-C773-41A5-B9E3-26F83B1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B7AE-0868-4436-9A5A-4600097212F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1E1C-50FD-4DCF-85EB-815CB4FCD18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Основы культуры реч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йдите ошибки, исправьте их.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ем определить нашу будущую перспекти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етая из города, температура была под но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ется обувь мужская, женская, детская и резинов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о свежее - 17.50, яйцо белое – 20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инить за груб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ить внимание на дисциплину  тру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протоптана асфальтовая доро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йдите ошибки, исправьте их.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ые выражения нередко встречаются в речах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а появились и более худшие привы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ой просил сестру налить себе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гин вел праздничный образ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портрет главного героя написан очень ярк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 за два года близко подруж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евский – писатель-психиат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761760"/>
            <a:ext cx="7569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ммуникативный аспект культуры речи</a:t>
            </a:r>
            <a:br>
              <a:rPr sz="4000"/>
            </a:b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ность и чистота реч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сть  и точность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ть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и выразительность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ность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сть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9680" y="1519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ммуникативный аспект культуры речи</a:t>
            </a: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в ФБР знают, что Клод Пеппер – настоящий экстраверт. Более того, есть основания полагать, что он практикует непотизм по отношению к собственной племяннице, а сестра его была фестианкой в греховном Нью-Йорке. Наконец, и этому трудно поверить, хорошо известно, что до женитьбы Пеппер практиковал целиб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ммуникативный аспект культуры речи</a:t>
            </a: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3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в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ФБ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нают, что Клод Пеппер – настоящий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экстравер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Более того, есть основания полагать, что он практикует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потиз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по отношению к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собственной племянниц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а сестра его был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фестианк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грехов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ью-Йорке. Наконец, и этом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трудно повери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хорошо известно, что до женитьбы Пеппер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практиковал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целиб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645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Этический аспект культуры речи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ункции язы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сть и тональность об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й этик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ые формулы об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бальные средства об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Вежливост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ральное качество, характеризующее поведение человека,  для которого уважение к людям стало повседневной нормой поведения и привычным способом общения с окружающими (ср.: грубость, беспардонность, чванливость, панибратство, хамство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Вежливост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ветл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ходи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ррек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тич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ика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юбез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алан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т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ти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Три Т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ерп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ерп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олерант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Терпение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ачество терпеливости, внутренней силы и упор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особность стойко, терпеливо и безропотно переносить что-либ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особность долго, настойчиво, упорно делать что-либ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Литературный язык – основа культуры речи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стная речь представлена в двух разновидност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ая реч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ифицированная ре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Терпимост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оциально-психологическое отношение уважительности и доброжелательности к убеждениям другого и подавление неприятия необычности в чуж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Толерантность (1)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изиологическая и психологическая способность ослабленно реагировать на какой-либо неблагоприятный факт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Толерантност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нчо Пансо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 говорю ему разумно и скромно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Закопай канав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 он мне глупо и грубо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Закопай с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Толерантность (2)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ложительное нравственное качество человека, заключающееся в ценностной ментальной установке на терпимость к мнениям, убеждениям и формам поведения другого челове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Толерантност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вседневная терп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лигиозная терп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Этническая терп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нтеллектуальная терпим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ммуникативная толерантность (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Концепт толерантност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чувственный образ спокойного, вежливого, невозмутимого челове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гнитивные сло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повседневная, религиозная, этническая, интеллектуальна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претационная ча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совокупность признаков, и их сочетаний в виде утверждений, стереотипов, представлений о мире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 пример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ссию часто вспоминаю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умая о давнем дорогом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 другой такой страны не знаю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1 пример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ссию часто вспоминаю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умая о давнем дорогом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 другой такой страны не знаю, Где так вольно, смирно и круг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 пример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дольф Виссарионович Улья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Качества профессионального речевого голос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ла зву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сыл зву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движность, гибкость голо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лётность зву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ыносливость голо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Разговорная речь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нужденность об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фициальность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дготовленность речи (словесная импровизац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участие говорящих в акте коммуникации (наличие собеседни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ая форма (характер восприятия – на слу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а внеязыковую ситуац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невербальных сред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мены позиций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щий -слушающий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алог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Качества профессионального речевого голос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ем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ысота голо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к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нтонация (тон голоса, интенсивность звучания, длительность, тембр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Речевой этикет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работанные обществом правила речевого поведения, обязательные для всех членов общества, национально специфичные, устойчиво закреплённые в речевых формулах, но в то же время исторически изменчи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Речевой этикет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75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ыработанные обществом правила речевого поведени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5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обязательные для всех членов обществ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5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национально специфичны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5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устойчиво закреплённые в речевых формулах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5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в то же время исторически изменчив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5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Речевая ситуац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 - ТЫ – ЗДЕСЬ -  СЕЙЧА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основные координаты высказыван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Речевая ситуац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т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говорящи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адресат)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 чё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тема беседы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место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гд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время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чем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мотив речевог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йствия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заче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цель речевого действия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дифицированная речь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е сферы об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нее подготовленная реч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обращена чаще всего к отсутствующим (подразумеваемым собеседника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а при помощи графических знаков (зрительное восприят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ербальные сре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енно моноло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сновные аспекты культуры речи 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кт культуры речи (правильность реч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спект культуры реч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разительность речи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чески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кт культуры ре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ормативный аспект культуры реч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7760" y="21337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е н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ие н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ологические н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эпические н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ие н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фические н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уационные н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ставьте ударение в словах</a:t>
            </a:r>
            <a:r>
              <a:rPr b="0" i="1" lang="en-US" sz="4400" spc="-1" strike="noStrike" u="sng">
                <a:solidFill>
                  <a:srgbClr val="996633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, апартаменты, афера,  баловать, банты, балованный, бесхребетный, бряцать, валовой,  вахтер (на судне), вахтер (сторож), досу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ыта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исповедание, договор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тво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мота, духовенство, еретик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ик, жалюзи, житие, завид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ставьте ударение в словах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ишь, водопровод, гастрономия, докрасна, зарешеченный, иконопись, инсульт, исковой, каталог, квартал, километр, коклюш, ломота, намерение, опека, обеспечение, нормировать, нормированный, ободрить, обыденщина, опошли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ставьте ударение в словах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мбировать, осведомиться, откупорить, памятливый, памятуя, петля, пиццер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авель, экскурс, эксперт, языковая норма – языковая колбас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5:43:48Z</dcterms:created>
  <dc:creator>Акимова Ольга Борисовна</dc:creator>
  <dc:description/>
  <dc:language>en-US</dc:language>
  <cp:lastModifiedBy>компьютер</cp:lastModifiedBy>
  <dcterms:modified xsi:type="dcterms:W3CDTF">2013-04-19T04:13:04Z</dcterms:modified>
  <cp:revision>11</cp:revision>
  <dc:subject/>
  <dc:title>Культура речи преподавателя </dc:title>
</cp:coreProperties>
</file>