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465-ECCE-497C-9CC4-BE76BC52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833-E0AA-460F-86C8-C73871C8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8AEB4D-8CD4-4930-AF0A-F1AB20BF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938666-9937-43F2-8473-63264D55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79C7CB-31F5-49D0-8D4A-13E1CE4B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637E67-805D-4681-8EA6-111D18BB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55EDC0-94AF-417B-BD66-966DD87A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6F8C52-6A29-4AE7-A585-330CEB83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EFB230-5FBC-439E-BB8C-8AF3BCFB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D853F5-4A19-427C-A638-41E0D41C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8F0389-E191-433A-9CA5-7C8CEE43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F16E2-F153-4A70-940E-E4CB4E77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A28-1EAF-43C8-93A8-3F61F024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64E6F-CA8E-4105-ACC5-65DF79BC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93AC4-374E-4547-A1D0-7053F1D8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DEA8B-11DB-493F-9384-E1137E82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5ACF9-8BA8-4347-B732-3E2F759C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153A4-9CB6-443B-A04F-F613739D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674FB-94F0-4646-A5FE-162A9FE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198F7-18A4-49F2-B57A-50BC429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1B104-CADC-443E-A123-C21EB529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AFF89-FD5A-4B1A-BEF0-28D5DA22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08050-A617-4AA2-8C67-89B41C7F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1E6-CADD-4C4D-9337-52139565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DAF3C-1754-4558-9893-7592DE30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C69C-9371-4402-A1C1-E566DB0B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FF90-D137-4F1F-A14F-68EB594D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E1AB-1332-447B-9FB3-6F728A1E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E55A-1FB8-43AA-A64D-384A5B68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66D3-EF83-4B46-B4E1-016B2066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18EF-26A3-4006-86BF-AE8267D4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CFD8-49DA-45CB-9527-657920A4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3C5-126D-4426-866F-1ADD3310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6DAF-AD47-4923-A6D6-9A17A43F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13C3-7AE5-4874-BD27-67620660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5EDE-5773-4AE3-AB64-89C245EC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1442-430B-4E31-B0C3-D8C4827A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2293-74F5-491D-8D77-20038B7F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A22E-4644-4A93-BE3C-1936C868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D7FBA-0C5B-43CB-8F05-01CF1641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03F6-93E2-467B-B7E6-A1FE90B6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D2B8-3DD4-43C4-9B11-DE9F081F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CA4F8-C608-4E1C-805E-A26E94E1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99E6-A38B-48B9-BF63-0338694B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870B2-F533-4DAA-804D-E9441F44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C07A5-1577-4E20-9AD2-73E9E04A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1BD43-9ADE-4CBA-8762-208D0A7D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E3D66-A8A0-4D26-92F1-B7089ACC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D8F77-5E5C-45E5-8822-4A1E5CD8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79AB-CAE5-4E2D-A679-C0B8414F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28FD-33DB-4E1A-9224-7DE6A090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10A2F-08CA-4776-B363-F2488A73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02913-7B5E-42A3-A63A-B95C18EB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37CC3-1EDC-4801-9751-6E046FA5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7F1-B43B-4015-B017-2B473C7F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3FEEF-120E-499C-8E08-4ADED736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8BD36-F297-46AF-A27E-C2C931BA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2974-5C68-465E-ABE6-4D54F8CD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46693-89DF-4765-BF26-BD0E226E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1D89A-4F68-418C-83AE-B0FA7BE7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0552-9214-4423-BF66-47A04B99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EF4D3-D29E-4F87-A647-9009176E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1E7A-8101-41B6-B5F4-043195F1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74B80-FE77-4E34-B2FE-3E08DCB6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0B303-96CE-4EDF-BD80-B5504EEF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606-E1BB-4FE8-95B7-22E4D7B7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6DBCF-2E25-4B6D-8834-D509766C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05965-693D-4264-9A5C-D3FA2AD9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1C676-4C8A-47FE-83B6-EE2CD533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C6F1A-7F13-4D0F-9534-A4BBA841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FB377-6EBC-4698-97D5-14C91EAB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8799C-F217-4A0E-AADB-211CCF88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EDB17-C63D-47DE-8AC7-ECBC8DD2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38937-FDA5-46F8-942A-0B0F9861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6AA49-4B73-42F1-915E-47025537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FEFCB-720F-4922-B3D0-CFC406C3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315-815F-44FC-BA80-457FD9D2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94448-2981-4A68-AE65-12A3BA22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172AC-9DF6-40BE-BBCA-0BF6615D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3AD9D-76EB-4E85-B7A2-5933E71D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CCEF9-81FF-4B83-B58B-64196BBC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FAB86-F731-4FA0-A416-6D88764A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B82F3-D018-454F-97BA-A65CFCB5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E77F2-A691-48F0-A9A0-75AE6376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FBAC8-1971-42F2-B6AA-C32DFA25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830E3-7818-47CE-93EC-85A80883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0C229-B32A-4B66-A98B-7683E73A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0C6-1F28-4C52-90BB-0411A01A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E812C-4F77-4CB4-9439-0A455862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E05FA-9D2C-41B5-B1C6-08AFAE00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2CE83-B19E-4A27-B843-7FD97C6A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E0CEC-4266-46E2-B7D3-0DAD964C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65909-8CE4-4D12-9A60-CD33C35A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1E27A-511C-4524-99F9-5B97A4DD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39F4C-552E-42A2-9FB7-FF0E0326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926C8-05C2-40C7-8A63-A068BB19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C6089-F62D-4859-9B07-A399D9E6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B3E0C-1A2D-4334-AA38-57D56CFF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2D7-A92C-45E4-98EF-424B090C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9BFDE-DE39-4915-A67C-8DE35A8D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634C3-28A1-42CD-BCFF-8E79652D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E2195-FFA8-4976-A325-C329C4B1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9F322-A5FD-4F96-BF2E-9B3DA565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D4AE3-9DA3-4479-ACD4-60943E34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DEBBB-E517-464E-97CD-CFB1FC6B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DA831-3DF1-4E4E-AE9F-2CA93D0D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727F4-66B5-4ECA-BE4E-4B999FC5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33959-2B91-4D58-82EA-EFFB8038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53DE1-B650-43AD-A15C-4757F35D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1A8-D666-4B43-A67D-2817E832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56EA2-A908-4627-BF8B-0F50C3C6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0147-141E-432D-B698-98E36E06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F26A2-A526-4273-AE65-684A4072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BB2C8-AD1B-4917-9BFA-4C32E135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479C9-7E06-49F6-B75D-EBCAE17E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FF7FF-46E4-4201-9A2C-2ECB116C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B8C60-C270-49A0-B718-A44DDCB4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2EEEF4-E8D9-46DE-8AE8-CF7A010E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CE83C2-E680-4FA8-8566-9A7987DE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025D3E-4FA7-4F77-8B09-94A07A16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BE6D-8AFC-4B8C-9E9E-BBD5B74E9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8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3EC4-99A1-40FC-A864-B73ECC50770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16B7-741B-4241-A65D-E8DEBAEF39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91B1-0875-4818-9859-16E6DB2A4CA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6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3C06-A069-40A9-A6E1-033FABC7219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F4F7-8FD6-49F3-B51D-5E64E4CBC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4479-80D3-4F22-BBCA-B2571BE97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14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7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A1CE-3623-4CC3-853A-A0481D4249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68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69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7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ED78-AAA4-4C06-A922-A0AB6DC9C0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D55F-B724-48E6-AF9C-0BC4794DA7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Викторина по русскому языку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6524280"/>
            <a:ext cx="6400800" cy="1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унктуационная истор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очка – ткну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пятая – запон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обки – скоб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вычки – наковальн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ире – тяну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к препинания – отметка об остановк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57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aeaea"/>
                </a:solidFill>
                <a:latin typeface="Tahoma"/>
              </a:rPr>
              <a:t>Занимательная стилистика</a:t>
            </a:r>
            <a:r>
              <a:rPr b="1" lang="en-US" sz="6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66320" y="6021000"/>
            <a:ext cx="75438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Благодарю за участие в викторине,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аш покорный слуг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Русский язы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Разминка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6204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Фонетика, орфоэп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Лексика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Фразеолог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Словообразование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Морфология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Синтаксис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Пунктуац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Стилистик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Фонетическая зарядка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1. дай, ноль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2. яр, куль,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3.пара, пол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Иноязычная лексика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Из студии теленовостей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5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77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Фразеологическая кладова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оптаться на месте, буря в стакане воды, кусать локти, как две капли воды, крокодиловы слезы, золотые го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т корки до корки, плакать в жилетку, рожденный ползать летать не может, мороз по коже, проще пареной реп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бвести вокруг пальца, не видеть дальше собственного носа, сидеть сложа руки, перемывать косточки, как баран на новые вор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ловообразовательные раскоп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3500280"/>
            <a:ext cx="800748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оре, гор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да, води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рога, дорог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81471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Тайны </a:t>
            </a:r>
            <a:br>
              <a:rPr sz="8000"/>
            </a:b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морфологии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ообразили на двои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 –числитель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ойка –существитель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ое – числитель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ойной – прилагатель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двоить – глаго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двоем – нареч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оякий – прилагатель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жды – нареч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ahoma"/>
              </a:rPr>
              <a:t>Его</a:t>
            </a:r>
            <a:br>
              <a:rPr sz="7200"/>
            </a:br>
            <a:r>
              <a:rPr b="1" lang="en-US" sz="7200" spc="-1" strike="noStrike">
                <a:solidFill>
                  <a:srgbClr val="eaeaea"/>
                </a:solidFill>
                <a:latin typeface="Tahoma"/>
              </a:rPr>
              <a:t> величество</a:t>
            </a:r>
            <a:br>
              <a:rPr sz="7200"/>
            </a:br>
            <a:r>
              <a:rPr b="1" lang="en-US" sz="7200" spc="-1" strike="noStrike">
                <a:solidFill>
                  <a:srgbClr val="eaeaea"/>
                </a:solidFill>
                <a:latin typeface="Tahoma"/>
              </a:rPr>
              <a:t>синтаксис</a:t>
            </a:r>
            <a:br>
              <a:rPr sz="7200"/>
            </a:b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7:58:22Z</dcterms:created>
  <dc:creator>user</dc:creator>
  <dc:description/>
  <dc:language>en-US</dc:language>
  <cp:lastModifiedBy>Учебный компьютер</cp:lastModifiedBy>
  <dcterms:modified xsi:type="dcterms:W3CDTF">2008-01-17T06:42:35Z</dcterms:modified>
  <cp:revision>5</cp:revision>
  <dc:subject/>
  <dc:title>Викторина по русскому языку</dc:title>
</cp:coreProperties>
</file>