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DE9-0947-444D-8FBE-F060A692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F92-C129-4D9B-8197-B675967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16C-B734-419D-B4A3-37CAAE4A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B08-6A0D-4A6F-B479-796240C8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D5B-89E4-4448-A13F-ED1521C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A63-D34C-4793-9112-5E6352C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C8A-1B77-4566-A40A-87EABED2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B12-0D0D-4B47-9BBE-96C2F1FC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3CE-778D-4903-9E65-10688C41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50B-3901-4304-BDF8-A06365C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CAA-71B5-4D99-9608-F9E686D1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C92-F6CB-4853-B047-282CE88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163-74C7-4A0B-904D-FED22DAF5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609480"/>
            <a:ext cx="7391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УССКИЙ ЯЗЫ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NON-STO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720" y="701640"/>
            <a:ext cx="74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й вариант ответа показ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ую расстановку запят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7680" y="2362320"/>
            <a:ext cx="821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работал больше других (1) но когда вста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 о премии (3) его всегда обход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ой (4) предпочитая награждать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8000" y="522360"/>
            <a:ext cx="55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ком слове два суффик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2600" y="1792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9880" y="24415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и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9880" y="3051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9160" y="35845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з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247760"/>
            <a:ext cx="1254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те памятку из 4 сложноподчин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ий, используя подчинительные сою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юзные слова и … советы Д.Карне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120" y="30481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аще улыбай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98160" y="457200"/>
            <a:ext cx="98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«Если вы хотите понравиться людям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7320" y="350532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скренне интересуйтесь жизнью други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040" y="396252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мейте выслушать до конца говорящего с 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200" y="449568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говорите об интересующем вашего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1040" y="304920"/>
            <a:ext cx="8398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 ли коварство змеи змеиному ковар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человек сам не свой, может ли он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им собой и самому себе хозяин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да ли сестра может оказ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стринск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да ли старческая походка отличает ста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ли смешливого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ть насмешли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93280" y="701640"/>
            <a:ext cx="34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равь оши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1676520"/>
            <a:ext cx="852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вратившись из экспедиции, капитан привёз с со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ведя. Он рассказал нам много интере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ны яростно ударяли о прибрежные скалы. С кажд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ом они становились всё выше и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ач предложил больному каждый день взвешиват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ватель попросил ученика прочитать свой до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" y="609480"/>
            <a:ext cx="839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 знаете лишь две последние буквы слова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к какой части речи можно от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ясните ответ на прим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60948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голом жг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енеет. Лес шуршит, озон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е одевается, хлеб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, с тобой потелефоня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не посвиданились вчера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сея в строках, образееш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оссоздаю тебя, рифм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 и работёнка – обалде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глаголясь, с якоря сорв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9240" y="4433760"/>
            <a:ext cx="53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формы не свойственны русскому язы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пытайтесь исправить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9800" y="533520"/>
            <a:ext cx="84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каком слове верно выделена бук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означающая ударный гласный зв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480" y="218916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ив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480" y="2722680"/>
            <a:ext cx="15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7000" y="329256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374976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н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7720" y="68580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здесь неправи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6680" y="1523880"/>
            <a:ext cx="61988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ш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ратишку потеп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ыпускной вечер Ольг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е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инное серебристое пла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ебя в шелка, в мех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аздник взрослы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ышей в карнавальные костю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18640" y="320760"/>
            <a:ext cx="799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варианте ответа указаны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пропущена буква 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5960" y="2021040"/>
            <a:ext cx="255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ож…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стойч…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мороз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накле…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53040" y="20937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А,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2475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А, Б,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8520" y="28954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А, Б,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800" y="3276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А, В,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80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4840" y="558720"/>
            <a:ext cx="74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спомните фразеологизмы о язы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8720" y="1941480"/>
            <a:ext cx="4277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не повора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заплет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чеш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ун тебе на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т дёрнул за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отн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прогло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без 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распуст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зык подве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89320" y="549360"/>
            <a:ext cx="65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слове нет суффик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2040" y="190512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ь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440" y="250344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2160" y="30369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уль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2160" y="364644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кан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5680" y="533520"/>
            <a:ext cx="41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справьт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67640" y="2362320"/>
            <a:ext cx="54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оропостижно влюб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петь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как мухи выздоравл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920" y="98280"/>
            <a:ext cx="890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помните русские соответствия пословиц, смыс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торых у других народов выражен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в хорошем огороде есть гнилые тыквы (осетин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же в пруду с лотосами водятся лягушки (сенегаль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в слоновой кости есть трещины (индонезий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3280" y="4343400"/>
            <a:ext cx="419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на солнце есть п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емье не без у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8400" y="576360"/>
            <a:ext cx="657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шибся ли поэт, когда написал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т белые сн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4280" y="2351160"/>
            <a:ext cx="6903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й свой ответ, учитывая крите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3000" y="304920"/>
            <a:ext cx="893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жно ли, не изменяя зву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ить род существительного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гру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существительные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ъезд, лесть, пяд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вратить в другие части реч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880" y="349416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5080" y="41036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ъ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6880" y="463716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з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6160" y="52466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98560" y="417600"/>
            <a:ext cx="7788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96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3640" y="417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5000" y="247680"/>
            <a:ext cx="68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каждой букве этого слова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обрать другие слова, относя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разным частям речи, не повторяя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320" y="1792440"/>
            <a:ext cx="77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080" y="228600"/>
            <a:ext cx="75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овите слова, которые от переста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гов не меняют своего 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4400" y="2351160"/>
            <a:ext cx="9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я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0600" y="289548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40240" y="34290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40600" y="403848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21280" y="217440"/>
            <a:ext cx="424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снеж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жилась – кружи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ала на снег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разбила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ы снежинке пом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кристаллы подбер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760" y="3124080"/>
            <a:ext cx="88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авь недостающие буквы в слова, которыми можно описать снеж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5000" y="3657600"/>
            <a:ext cx="85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ё…кая, у…кая, с…р…бр…ная, пр…зрачная, узорч…тая, пуш…ст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…люч…я, т…ж…лая, св…ркающ…я, л…д…ная, пер…л…вающ…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…мч…жная, хру…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720" y="5105520"/>
            <a:ext cx="758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я, у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я, 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я, п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рачная, узор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я, пуш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, 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я, с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каю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, 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я, пе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ющ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ная, хру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бный компьютер</cp:lastModifiedBy>
  <dcterms:modified xsi:type="dcterms:W3CDTF">2010-04-15T10:19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